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A9B-A9FC-470F-8F98-8E10933A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C68-FE5A-4DB8-8BC3-1CF197F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8DF-C49E-4697-8135-CF37AD44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767-10CD-416D-9CBA-A6E09651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3669-A494-4C53-B332-8432ED6D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7A0-BB2A-451E-A7A8-9D09DDD2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ACD-6DD8-4EEF-9836-6897CF76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DD3-D8A0-441D-A39D-5939F15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258E-C5EF-4B01-8AC0-AD465D9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687C-8D12-4687-BC7A-0729CAF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0B5-686E-4415-8954-EA4F415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8C5-F3D2-4F27-AAA3-23062EE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0E2-C4AA-471A-8CB0-A0B5F6C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686-6F09-40E4-B373-377AF90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7A5B-3E43-4EC5-A39E-BD39CC2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919-A725-4B58-8566-07AA184A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6F9-977E-40DF-83AB-2A0AFD92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B1B0C-D7C9-47A0-88BD-EC7169E440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CEA01-C269-4EF4-852E-12341507E0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C0FFA-8CEB-4B69-BCF9-681351F2CD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FA53C-200D-45A3-940B-2D963A7F4C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CC07D-E77A-4808-B360-CDF07586DE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FD5-F4C0-4839-B612-2418C43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41BE6-007F-4973-9FD2-53DB977D50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F9247-A50E-4AAC-982C-E65670EDCB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4742C-B5DE-4C19-8E99-51F6871462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A4B8E-7937-425B-90E6-963A33CB24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6DAD5-C937-4BD3-B251-971676CC0B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0F1EF-1990-4AB2-B17B-EAFC58581A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4CF1D-1EFA-456A-8BB2-55CF3AB2D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7AD-8672-4F2E-B819-E2532409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BB9-2268-42A0-A293-88562514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469-9E86-42E9-9F54-3568B1E2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7AC-65DF-403A-B957-9B7E9E3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B5F-9027-415C-BABA-A8F9C0E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590-1867-4F64-9A45-F595BD6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994-5D2E-4CC2-890E-C21EFF68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9B98-30CE-4C34-A51B-489D07C1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A320-579C-4EBA-8C4A-F8AE7BCD2EB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НАКОН ФРАКТУРА КОСТИЈУ ГОРЊЕГ ЕКСТРЕМИТЕ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Зараста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 СЕ У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ЗА ИНФЛАМ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ФАЗА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е нису потпуно одвојене, већ се преклап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E64-8D66-4FFE-832A-ED0D23A73A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ФАЗА ИМОБИЛИЗАЦИЈ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РЕХАБИЛИТАЦИЈА ПО СКИДАЊУ ИМОБИЛИЗАЦИЈ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C52-C34E-438E-8B5E-2D775A6A63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РЕПОЗИЦ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2362320"/>
            <a:ext cx="3581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јом (кожна, скелетна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тивно (крвава репозиција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2. ИМОБИЛИЗАЦИЈА РЕПОНИРАНОГ ПРЕЛО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7960" y="2209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ГИПСА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9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ОПЕРАТИВНА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СТЕОФИКСАЦИЈА (ОСТЕОСИНТЕЗ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ПОЉАШЊА ФИКСАЦИЈА ФРАГМЕНАТА АПАРАТ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РТРОПЛАСТ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РТРОДЕ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СТЕОТОМ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РЕСЕКЦИЈА К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МПУТ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55B-DE5B-40C9-BC61-58C0EC33E8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А. За време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а остеоген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Б. Након скидањ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ОП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брзин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опште и локалне изд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0F8-8F91-40F1-94F1-BAFB561E8D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тимулација остеогенезе физикалним агенси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СТАТИЧКЕ КОНТРАКЦИЈЕ ИМОБИЛИСАНИХ МИШИЋ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са тонусом који је најмање 30% од максималног тонус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же се ублажавање последица инактивите, превниција компликација и стимулација остеогенез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АЧ ОСЛОНАЦ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10% ТТ-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имулација пиезоелектричним ефект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акција мишића и мобилизација суседних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ИФ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90-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ИМ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реко гипсане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УВ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ЛАСЕРО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E1D-1CB5-4987-B1FE-D38021028D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ПО СКИДАЊУ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мобилизациона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активитет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за трофичких и дегенеративних промена ЛМС услед изостанка еферентних импул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а координације покрета одн дискинезије услед инхибиције у ЦНС-у, у условима изостанка аферетних проприоцептивних импул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F54-1089-4E2A-B268-432C6BEB1C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-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 (1-3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диферетне зоне- парафин, ИР, 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циркулацију:вазодилатација (активна хиперемија), долази до убрзања цирукулације (бржи прилив артеријске, брже отицање венске и лимф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везивно ткиво- повећава истегљивост колагена (зглобова, тетива, ожиљно везивно тки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због ових разлога доводи до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иканости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94BD-08FA-4EA3-BBFB-47C04E38C0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–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лектр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поненцијалн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0DF-A9FF-483D-9815-BCD37FF3AE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ГНЕТ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.поље ниске фреквенције:смањује оток, инфламацију, бол и стимулише остеогенезу, код конт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ура, побољшава микроциркулацију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0 mT, 50Hz, 30 min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.поље високе фреквен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АСЕ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улативни ласер, аналгетско и антиинфламаторног дејства. Примењује се на акупунктурне тачке и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кенирајући начи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W, f 1000Hz, 3 mi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тач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аберу се 4-5 тачака и зраче се по 3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C23-8CE4-4606-B6B0-BEDFD4E0A2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ЛТРАЗВУ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0,8 W/cm², 5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улсни и континуирани Уз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јство: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ханичк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икромасажа ткива на ћелијском нивоу), мења се пропу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љивост мембране (повећавају се дифузиони процеси и метаболизам) и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ичко дејств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услед апсорпције Уз Е (значајно за савлађивање контрактур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В ЗРАЦИ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се локално биодозом, и сваког дана се повећа за једну биодоз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08B-D0BA-4099-AF37-DB87E3B621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релом к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ше се као потпуни или непотпуни прекид континуитета коштаног ткива, проузрокован силом која превазилази границу његове природне еластич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може бити потпун, с прекидом континуитета периоста или непотпун, кад је периост очу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 обзиром на стање коже изнад места прело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творени преломи (кожа оштећена,склоност ка инфекцији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затворени преломи (кожа интактн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D87E-B49D-4971-BD0F-24A61BDED7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КИНЕЗИТЕРАПИЈА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АКТИВ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ВЕЖБЕ ИСТЕЗАЊ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та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алис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НФ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 Пасивне вежбе се не препоручу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ХИДРОТЕРАПИЈА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тушеви, подводне масаже, вртложне купке, бисерне када, угљено киселе и сулфоводоничне куп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аветује се у комбинацији са КТХ- хидрокинези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26CD-F731-4E67-A648-AFA8C87DC1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МАСАЖ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је дозвољена у пределу кал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њује се проксимално и дистално ради побољшања периферне циркул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ВАКУСАК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хипобарична терапија. На интактну кожу, навлаке према локализацији (капа, рука, чизма), подпритисак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0,3-0,4 bara, 6-20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РАД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повећања МОП, побољшања коорднинације, повећења локалне и опште издр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9987-0F88-49DB-8B48-336436118C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40458c"/>
                </a:solidFill>
                <a:latin typeface="Tahoma"/>
              </a:rPr>
              <a:t>Преломи надлакта и рамен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ости регије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патиц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capul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лактиц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umeru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ључна кос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lavicul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е кости су спојене меким ткивом (зглобна капсула, лигаменти,тетиве И мишић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7BE-4BDB-40A7-BC91-CA1052DA51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горњег дела надлакатне кости се називају и преломи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ни су специфични јер се на њему припајају мишићи ротаторне манжетне,који су битни за функцију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C641-644C-4E32-AA3A-F5957456BC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остоперативна имобилиз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перативна имобилизација траје д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 недељ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зависи од низа факто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д типа прело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врсте операц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степена постигнуте стабилности реконструисан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старости пацијент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сарадње пацијента и оператора,односно терапеута ит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1F4C-18BC-4FF0-86BB-6F4B3E0180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 кључне к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место прелома је граница средње и спољне трећи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зроци настан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е деловањем индиректне силе, (пад на испружену руку или, што је знатно чешће, пад на раме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обраћајне несреће,  ретко при неким спортским активно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1C6B-7ED2-4577-9ADE-ED4ECA691A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елом кључне к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је прелом у дечјој доб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одраслих се особа ређе јавља 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чешћи у мушкара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обраћајни трауматизам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д с мотоцик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1C03-5FD0-49AE-A6BD-3224417865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минира јак бол, а повређену  руку подржавају другом рук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и у рамену готово су неизводиви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ујне крепитације при покре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овањем мишића се одиже преломљени део кључне кости који је смештен ближе грудној кости према горе и уназад па је увек уочљива избочина на месту прелома која је окружена крвним подлив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682-0A2B-4125-9DA6-178C2AA02C6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је са стране преломљене кључне кости спуштено, а рука је прибијена уз те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бол у пределу кључн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жа је отечена и подливен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покретима могу се чути креп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када, преломи могу бити отворени, са фрагментима кости који вире кроз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е су удружене повреде ребара, лопатице, као и повреде околних структура (поткључна артерија, вена и околни нерви), као и повреде плућног ткива са компликацијама (пнеумоторакс и хемоторак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5FA7-CEA7-4D42-B2CE-0F268FF464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Отворени прелом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отвореног прелома је пробијање коже оштрим уломком кости или деловања јаких сила споља која директно оштећују кожу, поткожно ткиво, мишиће и саму к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обраћани т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матизам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C8A-A721-4744-8384-FD5B745006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377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да се постави дијагноза прелома кључ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пунски се може начинити редгенски преглед ове регије који потврђује дијагноз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41D-8AE3-4F1F-B0D7-01DA5E2B4C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кључне кости се у највећем броју случајева лече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неоперативном методо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а подразумева пласирање завоја у облику ” 8 ” који се носи око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 недељ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еративно леч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8E9B-4026-41A1-A493-919F7CEEE0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лопатиц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520" y="17521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лопатице су често удружени са повредама ребара и хумеруса, повреда плућног ткива, повредама великих крвних судова, можданих структура и неких унутрашњих орг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е на ванзглобне и унутарзглоб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доћи до прелома тела лопатице, гребена, акромиона, гленоидног врата и гленоидне ја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D87-FDED-4C3C-ABBE-D01C3BBE4D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суство бола у пределу леђа, или раменог зглоб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суство отока, хематома и осетљивости регије леђ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аме може да буде спуштено у односу на здра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окрети у зглобу рамена су отежани, онемогућени и праћени јаким бол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 прегледу су присутне крепитације и покретљивост делова лопатиц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огућа је повреда ребара која је удружена са болним удисајем и издисаје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јопаснија компликација прелома лопатице је повреда плућног паренхима са крварењем и појавом пнеумоторакс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огућа је повреда неуроваскуларних структура са моторним и сензорним дефицитима руке, као и поремећајем циркулације који може угрозити читаву рук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39AD-8760-405C-9860-CDAF7479AE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за постављање дијагнозе прелома лопа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тивна дијагноза се поставља на основу рендгенског снимка из више положа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75D-E622-4E22-8834-02BEDBDCCC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 је најчешће конзервативна и подразумева пласирање завоја који се носи до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6 недељ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да преломи потпуно зараст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леч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3ACE-E03F-4798-B0F4-2B6E1D4AA5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надлакатне кост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ћу се релативно често у свакодневном трауматолошком ра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 преломе проксималне трећин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. преломе средње трећине (дијафизе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. преломе дисталне трећине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су преломи дијафи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A6B-D3E3-4FCE-AD91-35397E9E2C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проксималн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38080" y="18288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елом хируршког врата надлактице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 је најчешћи од свих прело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релом анатомског вр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лом великог и малог туберкулум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прелом главе хумер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967-8066-41BB-A703-628C154E3B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проксимално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г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окрајка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5238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у најчешће падом на руку, а ређе деловањем директне силе (ударац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07F-FB92-4D12-9393-5967870E35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потичу од локалног хематома и стабилности преломних улома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Цело раме је отечено и бо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стабилних прелома покрети у рамену се деломично изводе уз одређени напор, уз јаку болн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нестабилних прелома, покрети у раменом зглобу се не могу изводити, оток је велики и болност је израж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ка тада често виси уз тело и изгледа као да је болесник не осе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FCF9-BC8F-4DCC-BC34-B38A74FA49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дела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ЕС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ОБЛИКУ преломне лин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И;   б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РАЛНИ;  ц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ДУЖНИ;   д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ПРЕ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D38-30C9-4A68-A94C-E557E23AE7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и клиничком сли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9EC-59AD-4D31-BE99-6C4C813302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зервативне мето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се одмах почиње с физикалним терапијом у смислу повећања покретљивости и спречавања развоја контрактура рам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B835-F38E-4B5B-AC90-972CFCCF33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средњ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испад функције надлактице, а често се види и деформитет у средњем делу, хем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тан је јак бол, са трњењем и слабошћу руке. А/П су изразито бол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покретима присутне су крепит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78CB-20D6-40AC-AFD5-EDF8540A3C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, 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у два сме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пходно је узимања неуролошког и васкуларног статуса повређене ру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долази до повреде радијалног нер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сним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341-9712-483F-BDD7-A78654DCFD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зервативно и оператив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7368-3910-4B07-A7EF-F723CBE9AE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довном рендгенском контролом се спречава превелико истезање уломака и могући настанак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псеудоартроз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ао једне од могућих комплик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8AD-390A-4548-8A99-DECA2181AE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дисталн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а су чести и најчешће настају падом на испружену руку или падом на савијени лака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жност им се придаје због сложености анатомско-зглобних односа трију костију и три зглоба у лакту (узглобљење хумеруса, радијуса и улне у сложеном лакатном глобу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1.екстраартикуларн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2.интраартикуларне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прелом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F300-E634-4C04-987F-80E386E2E2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зит и нагло настао оток лакта, праћен јаком болношћу и немогућношћу било каквих покрета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есници здравом руком придржавају сломљену руку и заузимају присилни положај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 и хематом због немогућности ширења у околно ткиво врши притисак на неуроваскуларне структуре, повећава се болност и може довести до настанка компартмент синдрома дистално од прело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4E8-9C92-409E-9B1D-58D7287B3B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г: анамнеза, клиничке и рендгенске сли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1B3-C8E6-48FA-B40C-9337C9F4AC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конзервативно, и 2. опера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зервативне методе лечења подразумевају само имобилизацију, репозицију одмакнутих коштаних уломака и имобилизацију као и разне методе кожне или коштане екстенз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без дислокације лече се само имобилизацијом 4–6 недеља уз редовне рендгенске контро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деце имобилизација траје 2–3 недеље зависи од узраста де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801-051B-41A7-91B1-D59C198E56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Врсте прело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сура или напрсн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убпериост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коминутив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мултифрагмент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вишестру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интраартикулар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луксац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прелом “зелене гранчице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авулз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епифизиоли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5A6C-F8F8-4186-A843-4CF908B6E2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40458c"/>
                </a:solidFill>
                <a:latin typeface="Tahoma"/>
              </a:rPr>
              <a:t>ПРЕЛОМИ КОСТИЈУ ПОДЛАКТИЦЕ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ости подлактиц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772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жбиц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радиус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ат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ст (ул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4F3-C59C-4681-A33D-52B2E8B4FE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проксималне трећине по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главице и врата радијус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нтегиа прелом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е олекранона ул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е процесус короноидеус-а улна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мостални преломи проксималне трећ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1D85-954F-4216-AA3C-60F3DEAEE9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дијафизе лакатне 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услед директног удара у подруч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лак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: оток, деформације и бол и ограничену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једноставног прелома без дислокације довољно је конзервативно лечење, репозиција и имобилизациј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лактица се имобилизује у савијеном положају руке уз трајање имобилизације између 4 до 6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171-DBE0-41C2-8DD0-8B2D1AACFF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Прелом главице радијус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главице радијуса сматра се најчешћим преломом у подручју проксималног дела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е при паду на испружену руку или када је рука лагано флектирана или екстендир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C0E-ECE4-42EB-A7DA-19434F0222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главице радиј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1760" y="1600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линичка сли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осетљивост на палпацију, болност при покретима у лакту, ограничена покретљивост, понекад присутност чујних крепитација при покушају покрета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ечењ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је конзервативно, имобилизацијом у подручју лакта под углом од 90° у трајању од 3 недељ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 завршеној имобилизацији неопходна је спровођење физиканог лечења  ради функционалног опорав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може бити и операти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DBA0-E05E-48A9-8964-D710D46E4C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 дисталног дела радиј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дни су од најчешћих прелома уопште са око 15% свих прелома и најчешће се налазе код одраслих особа, али се могу наћи и код млађих особа и код де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се најчешће налази на око 3цм изнад зглоба руч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FDED-5DF3-4888-8395-A2417EACEC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радијуса на типичном месту -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RL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77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да у најучесталије преломе у човека уопш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прелом настаје падом на испружену руку и с дланом у улнарној абдукц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н обухвата дистални део радијуса који је удаљен од 1–4 цм од зглобне капсу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ично долази до дислокације дисталног уломка према дорзално. Ово је типичан прелом те зоне, који још називамо 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лесов прел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6A1E-D96F-4EB5-964D-1E72725142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имптоми и знаци прелома радијуса на типичном месту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а бола у пределу доњег дела подлактице и зглоба руч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ограниченост покрета у зглобу руч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деформитет у виду бајонета подлактице када се рука гледа спр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едано са стране, деформитет је у виду виљуш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релативне близине тетива и неуроваскуларних елемената, могуће су компликације повреда, нарочито код померања коштаних фраг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E8C-2CE3-49EC-8A52-C193FD636F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да се посумња на ово ста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о је начинити рендгенски снима подлактице са зглобом ручја у два правца како би се дијагноза дефинитивно потврди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B0E-CCD2-4180-BF7C-298DA914EE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Подела према дислокацији фрагмената прело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269-5212-459D-9493-0DFB61E964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латус – померање у стра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аксим - промена осовине (ангула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лонгитудинем - померање по дуж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перифериам – померање по обод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се спроводи успостављањем анатомског односа измедју костију (репозиција) са гипсаном имобилизацијо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лечењ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8DA-A64A-46BF-89A5-149CF2D9F9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58c"/>
                </a:solidFill>
                <a:latin typeface="Tahoma"/>
              </a:rPr>
              <a:t>Преломи ручног зглоба и шаке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ша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176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ју се сви преломи дистално од крајњег дела подлактних ко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е се према анатомској локализацији припадајућих ко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подела односи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еломе у подручју карп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реломе у подручју метакарпус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реломи пр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3CE-127D-4A33-87CD-0D4ED8978F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костију карп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је преломом захваће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кафоидна кос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фоидна кост може бити захваћена преломом на свим својим деловима, а обично се ради о комплетном попречном прело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01D5-CAD5-4CD5-B1C1-A4A3B2F442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 податак о паду на шаку и болност у подручју ручнога зглоба, постоји и оток изнад скафоидне кости, али и подручја целог карпуса као и отежано и болни покрети, а посебно дорзална флексија која је практично неизводљива због бол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A6DD-6B7A-4AB7-AFB0-0D9A9CC411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Бенетов прело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0912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 посебног је клиничког значења прелом базе прве метакарпалне кости (палац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ав се прелом назива и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енетов прел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Он настаје при паду на руку с палцем у абдукц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BA7-30DF-4279-A788-38105D191D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ка болност у подручју базе прве метакарпалне кости уз о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 и поремећај функције палца, знакови су који упућују на Бенетов прел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ечењ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зервативно. Имобилизација траје 4–5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47C1-E985-4362-81D7-EED871F526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прстиј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19051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прстију најчешће настају деловањем директне силе на прсте (ударац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драслих особа најчешћи је узрок повреда на послу, док је код деце игра са лоп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ликујемо попречне, косе и спиралне преломне лин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85E-8BB0-4A05-9ADB-9041017237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линичка слика, дијагностика, лече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ст је болан, натечен и често деформисан. Сви су покрети лимитирани  и бол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имо углавном конзервати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обилизација прста траје 3–4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48AD-4B0F-4583-9806-9D779B1239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Креп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Губитак функ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FC6-D8B2-436E-93CD-91F7683490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знаци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ост на палпацију и/или при покр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а боје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или потпуни испад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уздужне ос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 улом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917-36A0-4326-A563-764F882313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реглед болесника са сумњом на прело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- сигурни и несигурни зна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цинтиграфија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46CE-C74C-4C7B-8D5D-2C4C5F7E9F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9:04:41Z</dcterms:modified>
  <cp:revision>1092</cp:revision>
  <dc:subject/>
  <dc:title>Rehabilitacija traumatoloških bolesnika</dc:title>
</cp:coreProperties>
</file>